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E43-5D71-46EA-BA96-641A7BA4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54D-FF8A-4237-8CB2-6A3A2948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C3E-AD4D-49B4-A32C-B9933E89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72C-4FB6-430F-A3A4-4E9C34F9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47C-5EDA-4252-BA32-2905E8E2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BB0-01B2-48CC-A18D-E0293A10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FAC-2DBC-42B4-A6B4-73F8EB4B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BE3-1AD4-4BC0-B5DA-E5AF2BF1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93B-B219-4201-82E7-A2DEE862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0B3-0511-4887-84E0-2C0EF6AE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94F-78D7-4144-8872-BFD76405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311-4365-43B8-ABC1-B11D84D9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3EFD7-63D0-43F4-8E65-4E3084B69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o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29040" y="25146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Division Word Proble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057400"/>
            <a:ext cx="77724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Cleland's class visited El Cerro Grande to learn more about the natural re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5:04:30Z</dcterms:created>
  <dc:creator/>
  <dc:description/>
  <dc:language>en-US</dc:language>
  <cp:lastModifiedBy/>
  <cp:revision>1</cp:revision>
  <dc:subject/>
  <dc:title/>
</cp:coreProperties>
</file>